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F730-D21B-435E-8752-FDE2AFEF6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5575-508F-40C0-82BC-D7D8F9581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arolinasalt.com/?p=2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5B8B-FCD6-472B-94B7-CDF5376F4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(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drmccarthysciencehgms.blogspot.com/2010/03/endothermic-vs-exothermic-chemical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call collision theory from Grade 10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614F-FDB2-461E-BB2E-7C38911B2D6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023E-9AFB-40C5-9EA5-E56E42EE2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(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drmccarthysciencehgms.blogspot.com/2010/03/endothermic-vs-exothermic-chemical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call collision theory from Grade 10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FE30-80CB-4103-9070-288BF705EC2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C44E-838D-4DAB-AE2C-D5F35F696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D9A1-45DA-4763-BC2D-3C85BAB47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glogster.com/glog.php?glog_id=10884793&amp;scale=54&amp;isprofile=true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3932-408F-402C-B9C1-E7CDFFBB2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435B-2D7B-4780-9A84-AA0DEF619C5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7391-A5F3-4B67-AF85-F0125CDD1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567A-AD54-422E-8616-AFCB9BBE713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2161-74D6-4657-A528-1B1EFDAB7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442B-AB94-44F8-B93F-83567C55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7C73-7B2D-471F-835D-0C84E8698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88E1-9638-41D6-B9C2-3C011B4AB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3FC0-3710-42F8-A366-589201D2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17A5-F255-4DE2-A50B-5CA821D4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81EA-95EE-4FF6-8001-84C79733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45EA-A357-47FC-96F0-FD4A18BB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BE7F-DD60-45DF-B946-8903FD6A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BF12-256D-42D7-9260-424277CC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E75A-87AE-45CB-80FE-2FE76B35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6AA2-1B5B-41AC-810A-F2F6BDC1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AC38-BE85-4D36-8EA4-DB30C16BF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wp_yyDEEC3k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zym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 E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br>
              <a:rPr sz="4400"/>
            </a:b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3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tivation Energy (E</a:t>
            </a:r>
            <a:r>
              <a:rPr b="0" lang="en-CA" sz="4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ll chemical reactions require an initial input of energy, called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ctivation energy (E</a:t>
            </a:r>
            <a:r>
              <a:rPr b="1" lang="en-CA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tivation Energy (E</a:t>
            </a:r>
            <a:r>
              <a:rPr b="0" lang="en-CA" sz="4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exothermic endothermic"/>
          <p:cNvPicPr/>
          <p:nvPr/>
        </p:nvPicPr>
        <p:blipFill>
          <a:blip r:embed="rId1"/>
          <a:stretch/>
        </p:blipFill>
        <p:spPr>
          <a:xfrm>
            <a:off x="2523960" y="1676520"/>
            <a:ext cx="4094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sms use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e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 practical source becaus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isrupt or denature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non-specific (would speed up all rea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nzymes and E</a:t>
            </a:r>
            <a:r>
              <a:rPr b="0" lang="en-CA" sz="4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18976234"/>
          <p:cNvPicPr/>
          <p:nvPr/>
        </p:nvPicPr>
        <p:blipFill>
          <a:blip r:embed="rId1"/>
          <a:stretch/>
        </p:blipFill>
        <p:spPr>
          <a:xfrm>
            <a:off x="1760400" y="1981080"/>
            <a:ext cx="562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How is E</a:t>
            </a:r>
            <a:r>
              <a:rPr b="0" lang="en-CA" sz="4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 reduc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nzymes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vide proper orientation of substrate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vide specific environments that promote cat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t strain on substrate bonds,  making them easier to br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study.com video on enzymes &amp; activation ener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wp_yyDEEC3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04:20:41Z</dcterms:created>
  <dc:creator>rubina khan</dc:creator>
  <dc:description/>
  <dc:language>en-US</dc:language>
  <cp:lastModifiedBy>rubina khan</cp:lastModifiedBy>
  <dcterms:modified xsi:type="dcterms:W3CDTF">2017-05-29T04:04:43Z</dcterms:modified>
  <cp:revision>55</cp:revision>
  <dc:subject/>
  <dc:title>3.3 Enzymes &amp; Ea 3.4 Food As Fuel</dc:title>
</cp:coreProperties>
</file>